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3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79EBB-3E5F-4574-9DE1-77F391B7D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1E507-AA50-48E4-A7B3-A0B5B6207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E5497-8658-4A61-8A86-2EB3D23FB8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3283B-124B-4BBE-B3D9-829C444E3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69BE3-29E6-4305-857C-C92CB28F42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C957D-BB3D-4746-AD54-6DE8F4EA7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531C8-33C6-44D8-AF72-5900E73FF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82D9D-80D5-455C-BF7D-03F687AE4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F3090-D6F0-4420-8BBF-93E3A3FBD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FE18E-FBDC-4AB9-BFE0-874228B93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18949-88DA-4C14-A4A6-B1B4B5F19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ED537-4BA8-4DCD-9E0D-F4D2640FB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B3E16-A53D-416A-804A-4AB5B6FF3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7782A-5B7E-4292-9010-055778251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B6039-68EE-4EBC-A90D-36EEC2F05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C5CC3-49A4-42B9-A5D0-F27A211AB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BFA18-067B-4AD9-8C0B-C49A5E8A9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55400-9ACB-4259-80C9-FB9B186EA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EBB10-921A-4AF2-8B7C-1FDD79FA09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7129D-2B4D-4BED-A820-8F3EB7E0B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6CBA5-1C2A-4A0A-AE4E-B09B18BD9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85BCE-D607-43F2-857A-F3644DD3D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E388D-0DC8-4715-8617-44355782FF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09DAA-F319-4896-A9AA-E40F2F3D99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6264F-1E7B-4D20-9074-D8762673F1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3CA11-7D25-478F-B406-23AB29C11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F8DE0-470C-4E87-A9A8-D43FDA758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B7204-ABFB-44E0-9AA3-06260443E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CB2BA-86A7-45E1-883F-DEFCD2F2A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CA219-0119-40E1-AAA6-A451D37C60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54542-5664-4A4A-A96F-4D453AE4A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61114-E068-4150-873D-58410C068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5B77-4C43-45FA-9F29-45BBE19B3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C7F2-8526-4BA5-BA65-0E2032E95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E569-E3F3-4FBE-A855-773241504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7300-F751-484F-924E-06A24E06D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FE5B-3A7A-432A-9052-B3A0F34E7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EFA6-028D-4A82-8A56-24503738C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2E0D-6AF2-4B91-9204-76BDE115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EC02-A09C-448D-BB59-10CD0EB06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C242-FAA3-4040-83AA-51E6AA077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5B10-67E8-4C2E-B463-5895C685C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6C9F-0AE5-43BC-AB01-61A709369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ACFB-261C-4685-96D6-3D21DD32A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B4504-2759-4678-BAB4-A333928FD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EF0A8-BE99-4B2B-BF86-56363AACA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FDDFA-00B4-4C87-B867-67CC3FAA6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A2701-0D5A-449F-B172-73E709623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7B051-DB49-43F1-9B8A-0695B0231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6EAD1-48EC-47E4-B178-550ED6DD7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2D78B-4A8B-4027-BB07-8132860D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D5683-F91A-4DEE-818A-DBEADDDFF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E9248-4D81-4426-A60F-9101FD228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97129-7B06-4324-A299-857D0CDF6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34B87-3A92-43F6-8021-D8EE439F7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549D3-2D4B-4F3F-A5BC-33CB4B1BB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3A673-624C-47A3-B11E-0BE121FE9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E35F5-5402-4BA7-A6F1-357208D3A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553FB-EDE6-42A4-BDB2-ADC2604E0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10FB5-E660-4C68-B4E9-004A0661D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3B455-5F8E-4EAB-BBDE-0A6B3D354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CDD15-304D-4DC1-8142-0F9ABFE00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928D0-905E-4001-8F59-4023A195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732CD-3191-4433-AEF8-94724F07D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F2746-A81A-4488-8267-922E6D267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36D9A-958B-42B5-B026-8151BD02A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66AFB-F8D8-47EE-B898-73918C245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55779-D85B-4A89-B964-AFBD537B4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87283-3C04-4141-8480-7CC299C03AA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419F2-705F-4868-8D31-6967E82774A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8C078-7709-4FFB-9CAA-C6365884F30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Box 3"/>
          <p:cNvSpPr/>
          <p:nvPr/>
        </p:nvSpPr>
        <p:spPr>
          <a:xfrm>
            <a:off x="539640" y="1197000"/>
            <a:ext cx="777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утска технологија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4"/>
          <p:cNvSpPr/>
          <p:nvPr/>
        </p:nvSpPr>
        <p:spPr>
          <a:xfrm>
            <a:off x="1042920" y="3284640"/>
            <a:ext cx="69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СПЕНЗ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spensiones medicin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5"/>
          <p:cNvSpPr/>
          <p:nvPr/>
        </p:nvSpPr>
        <p:spPr>
          <a:xfrm>
            <a:off x="4788000" y="5229360"/>
            <a:ext cx="40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. др Ана Барјактареви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5280" y="1557000"/>
            <a:ext cx="8229600" cy="4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графије лековитих облика типа суспензија у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h.</a:t>
            </a:r>
            <a:r>
              <a:rPr b="1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7.0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26600" y="2000160"/>
            <a:ext cx="8713800" cy="618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ни препарати за пероралну примену (типа суспензија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сул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нул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арати за инхалацију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ентерални препарати (типа суспензија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арати за уши (типа суспензија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ни препарати за примену на кожу</a:t>
            </a:r>
            <a:r>
              <a:rPr b="0" lang="sr-Latn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арати за нос (типа суспензија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арати за оралну слузокожу (типа суспензија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утски препарати под притиском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тални препарат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врсти препарати за примену на кожу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гинални препарат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апић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0" y="1111320"/>
            <a:ext cx="87138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3"/>
          <p:cNvSpPr/>
          <p:nvPr/>
        </p:nvSpPr>
        <p:spPr>
          <a:xfrm>
            <a:off x="3040200" y="2898720"/>
            <a:ext cx="3019320" cy="3270240"/>
          </a:xfrm>
          <a:prstGeom prst="ellipse">
            <a:avLst/>
          </a:prstGeom>
          <a:gradFill rotWithShape="0">
            <a:gsLst>
              <a:gs pos="0">
                <a:srgbClr val="14146f"/>
              </a:gs>
              <a:gs pos="100000">
                <a:srgbClr val="1c1c96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Н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СПЕНЗИЈ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4"/>
          <p:cNvSpPr/>
          <p:nvPr/>
        </p:nvSpPr>
        <p:spPr>
          <a:xfrm>
            <a:off x="4265640" y="2889360"/>
            <a:ext cx="420840" cy="33120"/>
          </a:xfrm>
          <a:custGeom>
            <a:avLst/>
            <a:gdLst>
              <a:gd name="textAreaLeft" fmla="*/ 0 w 420840"/>
              <a:gd name="textAreaRight" fmla="*/ 421200 w 42084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287" h="21">
                <a:moveTo>
                  <a:pt x="0" y="20"/>
                </a:moveTo>
                <a:lnTo>
                  <a:pt x="140" y="0"/>
                </a:lnTo>
                <a:lnTo>
                  <a:pt x="286" y="5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5"/>
          <p:cNvSpPr/>
          <p:nvPr/>
        </p:nvSpPr>
        <p:spPr>
          <a:xfrm>
            <a:off x="5238720" y="3070080"/>
            <a:ext cx="243000" cy="168480"/>
          </a:xfrm>
          <a:custGeom>
            <a:avLst/>
            <a:gdLst>
              <a:gd name="textAreaLeft" fmla="*/ 0 w 243000"/>
              <a:gd name="textAreaRight" fmla="*/ 243360 w 24300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166" h="106">
                <a:moveTo>
                  <a:pt x="0" y="0"/>
                </a:moveTo>
                <a:lnTo>
                  <a:pt x="86" y="49"/>
                </a:lnTo>
                <a:lnTo>
                  <a:pt x="165" y="105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6"/>
          <p:cNvSpPr/>
          <p:nvPr/>
        </p:nvSpPr>
        <p:spPr>
          <a:xfrm>
            <a:off x="5838840" y="3660840"/>
            <a:ext cx="106200" cy="228600"/>
          </a:xfrm>
          <a:custGeom>
            <a:avLst/>
            <a:gdLst>
              <a:gd name="textAreaLeft" fmla="*/ 0 w 106200"/>
              <a:gd name="textAreaRight" fmla="*/ 106560 w 1062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72" h="144">
                <a:moveTo>
                  <a:pt x="0" y="0"/>
                </a:moveTo>
                <a:lnTo>
                  <a:pt x="38" y="73"/>
                </a:lnTo>
                <a:lnTo>
                  <a:pt x="71" y="143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7"/>
          <p:cNvSpPr/>
          <p:nvPr/>
        </p:nvSpPr>
        <p:spPr>
          <a:xfrm>
            <a:off x="6045120" y="4552920"/>
            <a:ext cx="20880" cy="238320"/>
          </a:xfrm>
          <a:custGeom>
            <a:avLst/>
            <a:gdLst>
              <a:gd name="textAreaLeft" fmla="*/ 0 w 20880"/>
              <a:gd name="textAreaRight" fmla="*/ 21240 w 20880"/>
              <a:gd name="textAreaTop" fmla="*/ 0 h 238320"/>
              <a:gd name="textAreaBottom" fmla="*/ 238680 h 238320"/>
            </a:gdLst>
            <a:ahLst/>
            <a:rect l="textAreaLeft" t="textAreaTop" r="textAreaRight" b="textAreaBottom"/>
            <a:pathLst>
              <a:path w="14" h="150">
                <a:moveTo>
                  <a:pt x="13" y="0"/>
                </a:moveTo>
                <a:lnTo>
                  <a:pt x="13" y="45"/>
                </a:lnTo>
                <a:lnTo>
                  <a:pt x="0" y="149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8"/>
          <p:cNvSpPr/>
          <p:nvPr/>
        </p:nvSpPr>
        <p:spPr>
          <a:xfrm>
            <a:off x="5754600" y="5369040"/>
            <a:ext cx="103320" cy="174600"/>
          </a:xfrm>
          <a:custGeom>
            <a:avLst/>
            <a:gdLst>
              <a:gd name="textAreaLeft" fmla="*/ 0 w 103320"/>
              <a:gd name="textAreaRight" fmla="*/ 103680 w 10332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71" h="110">
                <a:moveTo>
                  <a:pt x="70" y="0"/>
                </a:moveTo>
                <a:lnTo>
                  <a:pt x="58" y="19"/>
                </a:lnTo>
                <a:lnTo>
                  <a:pt x="0" y="109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9"/>
          <p:cNvSpPr/>
          <p:nvPr/>
        </p:nvSpPr>
        <p:spPr>
          <a:xfrm>
            <a:off x="5084640" y="5938920"/>
            <a:ext cx="268560" cy="144360"/>
          </a:xfrm>
          <a:custGeom>
            <a:avLst/>
            <a:gdLst>
              <a:gd name="textAreaLeft" fmla="*/ 0 w 268560"/>
              <a:gd name="textAreaRight" fmla="*/ 268920 w 26856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183" h="91">
                <a:moveTo>
                  <a:pt x="182" y="0"/>
                </a:moveTo>
                <a:lnTo>
                  <a:pt x="100" y="45"/>
                </a:lnTo>
                <a:lnTo>
                  <a:pt x="0" y="90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10"/>
          <p:cNvSpPr/>
          <p:nvPr/>
        </p:nvSpPr>
        <p:spPr>
          <a:xfrm>
            <a:off x="4110120" y="6110280"/>
            <a:ext cx="285840" cy="61920"/>
          </a:xfrm>
          <a:custGeom>
            <a:avLst/>
            <a:gdLst>
              <a:gd name="textAreaLeft" fmla="*/ 0 w 285840"/>
              <a:gd name="textAreaRight" fmla="*/ 286200 w 28584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195" h="39">
                <a:moveTo>
                  <a:pt x="194" y="38"/>
                </a:moveTo>
                <a:lnTo>
                  <a:pt x="109" y="26"/>
                </a:lnTo>
                <a:lnTo>
                  <a:pt x="0" y="0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11"/>
          <p:cNvSpPr/>
          <p:nvPr/>
        </p:nvSpPr>
        <p:spPr>
          <a:xfrm>
            <a:off x="3346560" y="5543640"/>
            <a:ext cx="218880" cy="245880"/>
          </a:xfrm>
          <a:custGeom>
            <a:avLst/>
            <a:gdLst>
              <a:gd name="textAreaLeft" fmla="*/ 0 w 218880"/>
              <a:gd name="textAreaRight" fmla="*/ 219240 w 218880"/>
              <a:gd name="textAreaTop" fmla="*/ 0 h 245880"/>
              <a:gd name="textAreaBottom" fmla="*/ 246240 h 245880"/>
            </a:gdLst>
            <a:ahLst/>
            <a:rect l="textAreaLeft" t="textAreaTop" r="textAreaRight" b="textAreaBottom"/>
            <a:pathLst>
              <a:path w="149" h="155">
                <a:moveTo>
                  <a:pt x="148" y="154"/>
                </a:moveTo>
                <a:lnTo>
                  <a:pt x="73" y="83"/>
                </a:lnTo>
                <a:lnTo>
                  <a:pt x="0" y="0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12"/>
          <p:cNvSpPr/>
          <p:nvPr/>
        </p:nvSpPr>
        <p:spPr>
          <a:xfrm>
            <a:off x="3048120" y="4726080"/>
            <a:ext cx="55440" cy="290520"/>
          </a:xfrm>
          <a:custGeom>
            <a:avLst/>
            <a:gdLst/>
            <a:ahLst/>
            <a:rect l="l" t="t" r="r" b="b"/>
            <a:pathLst>
              <a:path w="38" h="183">
                <a:moveTo>
                  <a:pt x="37" y="182"/>
                </a:moveTo>
                <a:lnTo>
                  <a:pt x="19" y="108"/>
                </a:lnTo>
                <a:lnTo>
                  <a:pt x="0" y="0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13"/>
          <p:cNvSpPr/>
          <p:nvPr/>
        </p:nvSpPr>
        <p:spPr>
          <a:xfrm>
            <a:off x="3579840" y="3122640"/>
            <a:ext cx="198360" cy="155520"/>
          </a:xfrm>
          <a:custGeom>
            <a:avLst/>
            <a:gdLst>
              <a:gd name="textAreaLeft" fmla="*/ 0 w 198360"/>
              <a:gd name="textAreaRight" fmla="*/ 198720 w 19836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135" h="98">
                <a:moveTo>
                  <a:pt x="0" y="97"/>
                </a:moveTo>
                <a:lnTo>
                  <a:pt x="57" y="51"/>
                </a:lnTo>
                <a:lnTo>
                  <a:pt x="134" y="0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14"/>
          <p:cNvSpPr/>
          <p:nvPr/>
        </p:nvSpPr>
        <p:spPr>
          <a:xfrm>
            <a:off x="3095640" y="3801960"/>
            <a:ext cx="96840" cy="258840"/>
          </a:xfrm>
          <a:custGeom>
            <a:avLst/>
            <a:gdLst>
              <a:gd name="textAreaLeft" fmla="*/ 0 w 96840"/>
              <a:gd name="textAreaRight" fmla="*/ 97200 w 9684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66" h="163">
                <a:moveTo>
                  <a:pt x="0" y="162"/>
                </a:moveTo>
                <a:lnTo>
                  <a:pt x="30" y="83"/>
                </a:lnTo>
                <a:lnTo>
                  <a:pt x="65" y="0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5"/>
          <p:cNvSpPr/>
          <p:nvPr/>
        </p:nvSpPr>
        <p:spPr>
          <a:xfrm>
            <a:off x="1522440" y="2830680"/>
            <a:ext cx="416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6"/>
          <p:cNvSpPr/>
          <p:nvPr/>
        </p:nvSpPr>
        <p:spPr>
          <a:xfrm>
            <a:off x="5572080" y="2071800"/>
            <a:ext cx="2962440" cy="12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ација лековитог облика иако је лековита супстанца у облику раствора нестабилна (прашкови који се диспергују у води пре употреб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7"/>
          <p:cNvSpPr/>
          <p:nvPr/>
        </p:nvSpPr>
        <p:spPr>
          <a:xfrm>
            <a:off x="357120" y="1785960"/>
            <a:ext cx="335772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ација течног лековититог облика иако лековита супстанца није растворна у прописаном вехикулуму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9"/>
          <p:cNvSpPr/>
          <p:nvPr/>
        </p:nvSpPr>
        <p:spPr>
          <a:xfrm flipV="1">
            <a:off x="468360" y="2998080"/>
            <a:ext cx="2436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 rot="10800000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0"/>
          <p:cNvSpPr/>
          <p:nvPr/>
        </p:nvSpPr>
        <p:spPr>
          <a:xfrm>
            <a:off x="6383880" y="3895560"/>
            <a:ext cx="2478240" cy="5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јатриј</a:t>
            </a:r>
            <a:r>
              <a:rPr b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и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ријатриј</a:t>
            </a:r>
            <a:r>
              <a:rPr b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и пацијен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21"/>
          <p:cNvSpPr/>
          <p:nvPr/>
        </p:nvSpPr>
        <p:spPr>
          <a:xfrm>
            <a:off x="204840" y="3009960"/>
            <a:ext cx="270036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одане за примену на кожу и слузокожу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3"/>
          <p:cNvSpPr/>
          <p:nvPr/>
        </p:nvSpPr>
        <p:spPr>
          <a:xfrm>
            <a:off x="0" y="3857760"/>
            <a:ext cx="2181240" cy="14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ене суспензије имају предност у односу на чврсте дозиране облике, када се жели брзо ослоба</a:t>
            </a:r>
            <a:r>
              <a:rPr b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ђ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ње лековите супстанце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24"/>
          <p:cNvSpPr/>
          <p:nvPr/>
        </p:nvSpPr>
        <p:spPr>
          <a:xfrm flipH="1">
            <a:off x="8532000" y="5027760"/>
            <a:ext cx="1494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5"/>
          <p:cNvSpPr/>
          <p:nvPr/>
        </p:nvSpPr>
        <p:spPr>
          <a:xfrm>
            <a:off x="214200" y="5643720"/>
            <a:ext cx="259092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ћност формулације облика са  депо деловањем (интрамускуларна инј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6"/>
          <p:cNvSpPr/>
          <p:nvPr/>
        </p:nvSpPr>
        <p:spPr>
          <a:xfrm>
            <a:off x="6143760" y="5572080"/>
            <a:ext cx="2786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ћност корекције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ијатан</a:t>
            </a:r>
            <a:r>
              <a:rPr b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ус</a:t>
            </a:r>
            <a:r>
              <a:rPr b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27"/>
          <p:cNvSpPr/>
          <p:nvPr/>
        </p:nvSpPr>
        <p:spPr>
          <a:xfrm>
            <a:off x="3492360" y="2435400"/>
            <a:ext cx="611280" cy="480960"/>
          </a:xfrm>
          <a:prstGeom prst="line">
            <a:avLst/>
          </a:prstGeom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28"/>
          <p:cNvSpPr/>
          <p:nvPr/>
        </p:nvSpPr>
        <p:spPr>
          <a:xfrm flipV="1">
            <a:off x="5064120" y="2630160"/>
            <a:ext cx="270000" cy="322200"/>
          </a:xfrm>
          <a:prstGeom prst="line">
            <a:avLst/>
          </a:prstGeom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30"/>
          <p:cNvSpPr/>
          <p:nvPr/>
        </p:nvSpPr>
        <p:spPr>
          <a:xfrm flipV="1">
            <a:off x="6097680" y="4049280"/>
            <a:ext cx="253800" cy="103320"/>
          </a:xfrm>
          <a:prstGeom prst="line">
            <a:avLst/>
          </a:prstGeom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31"/>
          <p:cNvSpPr/>
          <p:nvPr/>
        </p:nvSpPr>
        <p:spPr>
          <a:xfrm flipH="1" flipV="1">
            <a:off x="2123640" y="3516120"/>
            <a:ext cx="986040" cy="298440"/>
          </a:xfrm>
          <a:prstGeom prst="line">
            <a:avLst/>
          </a:prstGeom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34"/>
          <p:cNvSpPr/>
          <p:nvPr/>
        </p:nvSpPr>
        <p:spPr>
          <a:xfrm rot="769800">
            <a:off x="2249280" y="4592160"/>
            <a:ext cx="741240" cy="368280"/>
          </a:xfrm>
          <a:custGeom>
            <a:avLst/>
            <a:gdLst>
              <a:gd name="textAreaLeft" fmla="*/ 0 w 741240"/>
              <a:gd name="textAreaRight" fmla="*/ 741600 w 74124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634" h="232">
                <a:moveTo>
                  <a:pt x="0" y="231"/>
                </a:moveTo>
                <a:lnTo>
                  <a:pt x="402" y="202"/>
                </a:lnTo>
                <a:lnTo>
                  <a:pt x="633" y="0"/>
                </a:lnTo>
              </a:path>
            </a:pathLst>
          </a:custGeom>
          <a:noFill/>
          <a:ln w="25560">
            <a:solidFill>
              <a:srgbClr val="2d2d8a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35"/>
          <p:cNvSpPr/>
          <p:nvPr/>
        </p:nvSpPr>
        <p:spPr>
          <a:xfrm rot="603600">
            <a:off x="4830480" y="6159600"/>
            <a:ext cx="1238040" cy="250560"/>
          </a:xfrm>
          <a:custGeom>
            <a:avLst/>
            <a:gdLst>
              <a:gd name="textAreaLeft" fmla="*/ 0 w 1238040"/>
              <a:gd name="textAreaRight" fmla="*/ 1238400 w 123804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845" h="158">
                <a:moveTo>
                  <a:pt x="0" y="79"/>
                </a:moveTo>
                <a:lnTo>
                  <a:pt x="528" y="157"/>
                </a:lnTo>
                <a:lnTo>
                  <a:pt x="844" y="0"/>
                </a:lnTo>
              </a:path>
            </a:pathLst>
          </a:custGeom>
          <a:noFill/>
          <a:ln w="25560">
            <a:solidFill>
              <a:srgbClr val="2d2d8a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36"/>
          <p:cNvSpPr/>
          <p:nvPr/>
        </p:nvSpPr>
        <p:spPr>
          <a:xfrm rot="20484600">
            <a:off x="2943000" y="6046920"/>
            <a:ext cx="838080" cy="217440"/>
          </a:xfrm>
          <a:custGeom>
            <a:avLst/>
            <a:gdLst>
              <a:gd name="textAreaLeft" fmla="*/ 0 w 838080"/>
              <a:gd name="textAreaRight" fmla="*/ 838440 w 83808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572" h="137">
                <a:moveTo>
                  <a:pt x="571" y="0"/>
                </a:moveTo>
                <a:lnTo>
                  <a:pt x="274" y="136"/>
                </a:lnTo>
                <a:lnTo>
                  <a:pt x="0" y="100"/>
                </a:lnTo>
              </a:path>
            </a:pathLst>
          </a:custGeom>
          <a:noFill/>
          <a:ln w="25560">
            <a:solidFill>
              <a:srgbClr val="2d2d8a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Oval 3"/>
          <p:cNvSpPr/>
          <p:nvPr/>
        </p:nvSpPr>
        <p:spPr>
          <a:xfrm>
            <a:off x="3040200" y="3108240"/>
            <a:ext cx="3019320" cy="3270240"/>
          </a:xfrm>
          <a:prstGeom prst="ellipse">
            <a:avLst/>
          </a:prstGeom>
          <a:solidFill>
            <a:srgbClr val="2d2d8a"/>
          </a:solidFill>
          <a:ln w="25560">
            <a:solidFill>
              <a:srgbClr val="1e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ДОСТАЦ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СПЕНЗИЈ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4"/>
          <p:cNvSpPr/>
          <p:nvPr/>
        </p:nvSpPr>
        <p:spPr>
          <a:xfrm>
            <a:off x="4265640" y="3098880"/>
            <a:ext cx="420840" cy="33120"/>
          </a:xfrm>
          <a:custGeom>
            <a:avLst/>
            <a:gdLst>
              <a:gd name="textAreaLeft" fmla="*/ 0 w 420840"/>
              <a:gd name="textAreaRight" fmla="*/ 421200 w 42084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287" h="21">
                <a:moveTo>
                  <a:pt x="0" y="20"/>
                </a:moveTo>
                <a:lnTo>
                  <a:pt x="140" y="0"/>
                </a:lnTo>
                <a:lnTo>
                  <a:pt x="286" y="5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5"/>
          <p:cNvSpPr/>
          <p:nvPr/>
        </p:nvSpPr>
        <p:spPr>
          <a:xfrm>
            <a:off x="5238720" y="3279600"/>
            <a:ext cx="243000" cy="168480"/>
          </a:xfrm>
          <a:custGeom>
            <a:avLst/>
            <a:gdLst>
              <a:gd name="textAreaLeft" fmla="*/ 0 w 243000"/>
              <a:gd name="textAreaRight" fmla="*/ 243360 w 24300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166" h="106">
                <a:moveTo>
                  <a:pt x="0" y="0"/>
                </a:moveTo>
                <a:lnTo>
                  <a:pt x="86" y="49"/>
                </a:lnTo>
                <a:lnTo>
                  <a:pt x="165" y="105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6"/>
          <p:cNvSpPr/>
          <p:nvPr/>
        </p:nvSpPr>
        <p:spPr>
          <a:xfrm>
            <a:off x="5838840" y="3870360"/>
            <a:ext cx="106200" cy="228600"/>
          </a:xfrm>
          <a:custGeom>
            <a:avLst/>
            <a:gdLst>
              <a:gd name="textAreaLeft" fmla="*/ 0 w 106200"/>
              <a:gd name="textAreaRight" fmla="*/ 106560 w 1062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72" h="144">
                <a:moveTo>
                  <a:pt x="0" y="0"/>
                </a:moveTo>
                <a:lnTo>
                  <a:pt x="38" y="73"/>
                </a:lnTo>
                <a:lnTo>
                  <a:pt x="71" y="143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7"/>
          <p:cNvSpPr/>
          <p:nvPr/>
        </p:nvSpPr>
        <p:spPr>
          <a:xfrm>
            <a:off x="6045120" y="4762440"/>
            <a:ext cx="20880" cy="238320"/>
          </a:xfrm>
          <a:custGeom>
            <a:avLst/>
            <a:gdLst>
              <a:gd name="textAreaLeft" fmla="*/ 0 w 20880"/>
              <a:gd name="textAreaRight" fmla="*/ 21240 w 20880"/>
              <a:gd name="textAreaTop" fmla="*/ 0 h 238320"/>
              <a:gd name="textAreaBottom" fmla="*/ 238680 h 238320"/>
            </a:gdLst>
            <a:ahLst/>
            <a:rect l="textAreaLeft" t="textAreaTop" r="textAreaRight" b="textAreaBottom"/>
            <a:pathLst>
              <a:path w="14" h="150">
                <a:moveTo>
                  <a:pt x="13" y="0"/>
                </a:moveTo>
                <a:lnTo>
                  <a:pt x="13" y="45"/>
                </a:lnTo>
                <a:lnTo>
                  <a:pt x="0" y="149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8"/>
          <p:cNvSpPr/>
          <p:nvPr/>
        </p:nvSpPr>
        <p:spPr>
          <a:xfrm>
            <a:off x="5754600" y="5578560"/>
            <a:ext cx="103320" cy="174600"/>
          </a:xfrm>
          <a:custGeom>
            <a:avLst/>
            <a:gdLst>
              <a:gd name="textAreaLeft" fmla="*/ 0 w 103320"/>
              <a:gd name="textAreaRight" fmla="*/ 103680 w 10332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71" h="110">
                <a:moveTo>
                  <a:pt x="70" y="0"/>
                </a:moveTo>
                <a:lnTo>
                  <a:pt x="58" y="19"/>
                </a:lnTo>
                <a:lnTo>
                  <a:pt x="0" y="109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9"/>
          <p:cNvSpPr/>
          <p:nvPr/>
        </p:nvSpPr>
        <p:spPr>
          <a:xfrm>
            <a:off x="5084640" y="6148440"/>
            <a:ext cx="268560" cy="144360"/>
          </a:xfrm>
          <a:custGeom>
            <a:avLst/>
            <a:gdLst>
              <a:gd name="textAreaLeft" fmla="*/ 0 w 268560"/>
              <a:gd name="textAreaRight" fmla="*/ 268920 w 26856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183" h="91">
                <a:moveTo>
                  <a:pt x="182" y="0"/>
                </a:moveTo>
                <a:lnTo>
                  <a:pt x="100" y="45"/>
                </a:lnTo>
                <a:lnTo>
                  <a:pt x="0" y="90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10"/>
          <p:cNvSpPr/>
          <p:nvPr/>
        </p:nvSpPr>
        <p:spPr>
          <a:xfrm>
            <a:off x="4110120" y="6319800"/>
            <a:ext cx="285840" cy="61920"/>
          </a:xfrm>
          <a:custGeom>
            <a:avLst/>
            <a:gdLst>
              <a:gd name="textAreaLeft" fmla="*/ 0 w 285840"/>
              <a:gd name="textAreaRight" fmla="*/ 286200 w 28584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195" h="39">
                <a:moveTo>
                  <a:pt x="194" y="38"/>
                </a:moveTo>
                <a:lnTo>
                  <a:pt x="109" y="26"/>
                </a:lnTo>
                <a:lnTo>
                  <a:pt x="0" y="0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11"/>
          <p:cNvSpPr/>
          <p:nvPr/>
        </p:nvSpPr>
        <p:spPr>
          <a:xfrm>
            <a:off x="3346560" y="5753160"/>
            <a:ext cx="218880" cy="245880"/>
          </a:xfrm>
          <a:custGeom>
            <a:avLst/>
            <a:gdLst>
              <a:gd name="textAreaLeft" fmla="*/ 0 w 218880"/>
              <a:gd name="textAreaRight" fmla="*/ 219240 w 218880"/>
              <a:gd name="textAreaTop" fmla="*/ 0 h 245880"/>
              <a:gd name="textAreaBottom" fmla="*/ 246240 h 245880"/>
            </a:gdLst>
            <a:ahLst/>
            <a:rect l="textAreaLeft" t="textAreaTop" r="textAreaRight" b="textAreaBottom"/>
            <a:pathLst>
              <a:path w="149" h="155">
                <a:moveTo>
                  <a:pt x="148" y="154"/>
                </a:moveTo>
                <a:lnTo>
                  <a:pt x="73" y="83"/>
                </a:lnTo>
                <a:lnTo>
                  <a:pt x="0" y="0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12"/>
          <p:cNvSpPr/>
          <p:nvPr/>
        </p:nvSpPr>
        <p:spPr>
          <a:xfrm>
            <a:off x="3048120" y="4935600"/>
            <a:ext cx="55440" cy="290520"/>
          </a:xfrm>
          <a:custGeom>
            <a:avLst/>
            <a:gdLst/>
            <a:ahLst/>
            <a:rect l="l" t="t" r="r" b="b"/>
            <a:pathLst>
              <a:path w="38" h="183">
                <a:moveTo>
                  <a:pt x="37" y="182"/>
                </a:moveTo>
                <a:lnTo>
                  <a:pt x="19" y="108"/>
                </a:lnTo>
                <a:lnTo>
                  <a:pt x="0" y="0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13"/>
          <p:cNvSpPr/>
          <p:nvPr/>
        </p:nvSpPr>
        <p:spPr>
          <a:xfrm>
            <a:off x="3579840" y="3332160"/>
            <a:ext cx="198360" cy="155520"/>
          </a:xfrm>
          <a:custGeom>
            <a:avLst/>
            <a:gdLst>
              <a:gd name="textAreaLeft" fmla="*/ 0 w 198360"/>
              <a:gd name="textAreaRight" fmla="*/ 198720 w 19836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135" h="98">
                <a:moveTo>
                  <a:pt x="0" y="97"/>
                </a:moveTo>
                <a:lnTo>
                  <a:pt x="57" y="51"/>
                </a:lnTo>
                <a:lnTo>
                  <a:pt x="134" y="0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14"/>
          <p:cNvSpPr/>
          <p:nvPr/>
        </p:nvSpPr>
        <p:spPr>
          <a:xfrm>
            <a:off x="3095640" y="4011480"/>
            <a:ext cx="96840" cy="258840"/>
          </a:xfrm>
          <a:custGeom>
            <a:avLst/>
            <a:gdLst>
              <a:gd name="textAreaLeft" fmla="*/ 0 w 96840"/>
              <a:gd name="textAreaRight" fmla="*/ 97200 w 9684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66" h="163">
                <a:moveTo>
                  <a:pt x="0" y="162"/>
                </a:moveTo>
                <a:lnTo>
                  <a:pt x="30" y="83"/>
                </a:lnTo>
                <a:lnTo>
                  <a:pt x="65" y="0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5"/>
          <p:cNvSpPr/>
          <p:nvPr/>
        </p:nvSpPr>
        <p:spPr>
          <a:xfrm>
            <a:off x="1522440" y="3040200"/>
            <a:ext cx="416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6"/>
          <p:cNvSpPr/>
          <p:nvPr/>
        </p:nvSpPr>
        <p:spPr>
          <a:xfrm>
            <a:off x="6181560" y="2500200"/>
            <a:ext cx="2962440" cy="13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ежана могућност редисперзије чврсте фазе, што може узроковати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ачност у дозирању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7"/>
          <p:cNvSpPr/>
          <p:nvPr/>
        </p:nvSpPr>
        <p:spPr>
          <a:xfrm>
            <a:off x="1000080" y="1785960"/>
            <a:ext cx="296712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ки су нестабилне. Пре или касније долази до таложења чврсте фаз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9"/>
          <p:cNvSpPr/>
          <p:nvPr/>
        </p:nvSpPr>
        <p:spPr>
          <a:xfrm flipV="1">
            <a:off x="468360" y="3208320"/>
            <a:ext cx="24368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 rot="10800000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23"/>
          <p:cNvSpPr/>
          <p:nvPr/>
        </p:nvSpPr>
        <p:spPr>
          <a:xfrm flipH="1">
            <a:off x="8532000" y="5237280"/>
            <a:ext cx="14940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24"/>
          <p:cNvSpPr/>
          <p:nvPr/>
        </p:nvSpPr>
        <p:spPr>
          <a:xfrm>
            <a:off x="0" y="3714840"/>
            <a:ext cx="259092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ћност микробиолошке контаминациј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25"/>
          <p:cNvSpPr/>
          <p:nvPr/>
        </p:nvSpPr>
        <p:spPr>
          <a:xfrm>
            <a:off x="6357960" y="5000760"/>
            <a:ext cx="278604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олико је вискозитет препарата сувише велики отежано је изливање из боце или пролазак кроз инјекциону игл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26"/>
          <p:cNvSpPr/>
          <p:nvPr/>
        </p:nvSpPr>
        <p:spPr>
          <a:xfrm flipH="1">
            <a:off x="3492360" y="2860560"/>
            <a:ext cx="36720" cy="720720"/>
          </a:xfrm>
          <a:prstGeom prst="line">
            <a:avLst/>
          </a:prstGeom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27"/>
          <p:cNvSpPr/>
          <p:nvPr/>
        </p:nvSpPr>
        <p:spPr>
          <a:xfrm flipV="1">
            <a:off x="5867280" y="3508200"/>
            <a:ext cx="270000" cy="322560"/>
          </a:xfrm>
          <a:prstGeom prst="line">
            <a:avLst/>
          </a:prstGeom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30"/>
          <p:cNvSpPr/>
          <p:nvPr/>
        </p:nvSpPr>
        <p:spPr>
          <a:xfrm flipH="1" flipV="1">
            <a:off x="1979640" y="4300200"/>
            <a:ext cx="985680" cy="298440"/>
          </a:xfrm>
          <a:prstGeom prst="line">
            <a:avLst/>
          </a:prstGeom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reeform 32"/>
          <p:cNvSpPr/>
          <p:nvPr/>
        </p:nvSpPr>
        <p:spPr>
          <a:xfrm rot="603600">
            <a:off x="4830480" y="6369120"/>
            <a:ext cx="1238040" cy="250920"/>
          </a:xfrm>
          <a:custGeom>
            <a:avLst/>
            <a:gdLst>
              <a:gd name="textAreaLeft" fmla="*/ 0 w 1238040"/>
              <a:gd name="textAreaRight" fmla="*/ 1238400 w 1238040"/>
              <a:gd name="textAreaTop" fmla="*/ 0 h 250920"/>
              <a:gd name="textAreaBottom" fmla="*/ 250920 h 250920"/>
            </a:gdLst>
            <a:ahLst/>
            <a:rect l="textAreaLeft" t="textAreaTop" r="textAreaRight" b="textAreaBottom"/>
            <a:pathLst>
              <a:path w="845" h="158">
                <a:moveTo>
                  <a:pt x="0" y="79"/>
                </a:moveTo>
                <a:lnTo>
                  <a:pt x="528" y="157"/>
                </a:lnTo>
                <a:lnTo>
                  <a:pt x="844" y="0"/>
                </a:lnTo>
              </a:path>
            </a:pathLst>
          </a:custGeom>
          <a:noFill/>
          <a:ln w="25560">
            <a:solidFill>
              <a:srgbClr val="2d2d8a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30200" y="90756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ке карактеристике добро формулисане фармацеутске суспенз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28400" y="2142720"/>
            <a:ext cx="8397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хтеви које треба да испуни добро формулисана суспензиј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а стабил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ка стабил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ус, мирис и бо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говарајуће реолошке карактеристике значајне з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ку размазивост и задржавање на кожи (спољашња приме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ок кроз инјекциону иглу без запушавањ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биолошки квалит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ке карактеристике добро формулисане фармацеутске суспензиј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60200"/>
            <a:ext cx="83628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спензија мора остати довољно дуго хомогена, нарочито између мућкања контејнера и изливања потребне количине – дозе ле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олико се током мировања – чувања суспензије ствара седимент он треба да се лако ресуспендује – редиспергује лаганим мућкање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ензија треба да буде довољно густа (вискозна) како би се смањила брзина таложења честица, али вискозитет не сме бити тако велики да омета примену препарат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стице треба да су малих величина униформне дистрибуције, како би препарат имао гладак, елегантан изглед, без видљиве грубе текстур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КА СТАБИЛН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8353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шко је формулисати идеалну суспензију која је физи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билна (свака честица треба да је стално суспендована 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љашњој фази). Зато се захтев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о боља хомоге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о таложењ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редисперговање лаганим мућкањ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ђени вискозит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чина честица дисперговане фа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ме доћи до формирања компактног талога - кеиковање. То се постиже израдом флокулованих систе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К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БИЛН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13840" y="2060280"/>
            <a:ext cx="8929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ку стабилност суспензија утичу следећи фактори</a:t>
            </a:r>
            <a:r>
              <a:rPr b="0" lang="pt-B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диментаци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електрокинетички феномен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величина честиц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квашење честиц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) дефлокуловано и флокуловано стање (суспензије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ђ) међуповршинска својства суспендованих честиц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2400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димента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3534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исперговане честице суспензије делује сила гравитациј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лед чега долази до седиментациј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иљ је смањити брзину таложењ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ефицијент седиментаци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спензиони коефицијен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же за квантификацију седиментације суспендованих честиц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(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представља однос волумена седиментационог слоја (висина исталожених честиц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x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укупног волумена суспензије (почетна висина суспензи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hx/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5280" y="80280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ефицијент седимента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95280" y="202896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ефицијент седиментације суспензије има вредност мању од 1, а пожељно је да буде близу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хтев за магистрално израђене суспензије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0,9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 време од 1 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хтев за индуструјски произведене суспензи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0,9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 време од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кинетички феном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425080" cy="567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истему чврста-течна фаза постоје привлачне и одбојне силе, а да ли ће се честице међусобно привлачити или одбијати у течном медијуму зависи од тога које силе преовладавају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лачне силе су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n der Waal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ве, а одбојне настају као последица електронабоја на честицама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шинско наелектрисање честице супстанце узроковано ј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лективном адсорпцијом јона из вехикулума (јон додат течном медијуму, водоников или хидроксилни јон ако је у питању вода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изацијом површинских група дисперзне фазе - укупно наелектрисање је у функцији рН вредности вехикулум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1052280"/>
            <a:ext cx="8229600" cy="55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СПЕНЗ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0920" y="1844280"/>
            <a:ext cx="8424720" cy="56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спензије су, течни, грубо дисп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и, двофазни системи и представљају дисперзије једне или више чврстих супстанци у неком течном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еном или неводеном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хикулуму у коме се не растварај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за која се диспергује назива се раздељена (распршена) фаза, дисперзна фаза, унутрашња, дисконтинуирана или отворена фа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за у којој је извршено дисперговање назива се дисперзно средство, спољашња, континуирана или затворена фаза, а најчешће вехикулу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јам суспензиј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чав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ти облик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spensiones medicinale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или тип препарата (лековити облик полидисперзног типа, нпр. маст типа суспензиј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24000" y="9748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кинетички феном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23640" y="2296800"/>
            <a:ext cx="41036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билност дисперзних система зависи од наелектрисања чести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чина наелектрисања одређује се мерењем електрофоретске покретљивости честица у електричном пољу – мерењем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ета потенциј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971600" y="2205000"/>
            <a:ext cx="4038840" cy="46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та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нциј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7" descr="CESTICA"/>
          <p:cNvPicPr/>
          <p:nvPr/>
        </p:nvPicPr>
        <p:blipFill>
          <a:blip r:embed="rId1"/>
          <a:stretch/>
        </p:blipFill>
        <p:spPr>
          <a:xfrm>
            <a:off x="5105520" y="2781360"/>
            <a:ext cx="4038480" cy="36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кинетички феном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90080" y="2187720"/>
            <a:ext cx="45975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овршини честице потенцијал  је максималан, затим нагло опада. Идући у правци главнине вехикулума потенцијал опада, расподела наелектрисања  је уједначена (једнако заступљено позитивно и негативно наелектрисањ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ерговане честице ће се у електричном пољу кретати према електроди супротног наелектрисањ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нцијал на тој равни назива се електрокинетички или зета потенцијал (з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6" descr="CESTICA"/>
          <p:cNvPicPr/>
          <p:nvPr/>
        </p:nvPicPr>
        <p:blipFill>
          <a:blip r:embed="rId1"/>
          <a:stretch/>
        </p:blipFill>
        <p:spPr>
          <a:xfrm>
            <a:off x="5105520" y="2133720"/>
            <a:ext cx="403848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кинетички феном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84120" y="167292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и дисперзије и агрегације могу се објаснити силама интеракције међу диспергованим честицам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а научника (</a:t>
            </a:r>
            <a:r>
              <a:rPr b="0" lang="pt-B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rjaquin, Landau, Verwey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pt-B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we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проучавала је к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нтитативну теорију интеракције између диспергованих честица – по њима названа </a:t>
            </a:r>
            <a:r>
              <a:rPr b="1" lang="pt-B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LVO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ија</a:t>
            </a:r>
            <a:r>
              <a:rPr b="0" lang="pt-B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LVO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ија предвиђа и објашњава могуће интеракције честица у дисперзним системима (колоидни раствори, суспензије, емулзије</a:t>
            </a:r>
            <a:r>
              <a:rPr b="0" lang="pt-B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зматрају се два основна типа сила – привлачне Van der Waals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ве силе и електростатичке одбојне сил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65200" y="7837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кинетички феноме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6" descr="DLVO"/>
          <p:cNvPicPr/>
          <p:nvPr/>
        </p:nvPicPr>
        <p:blipFill>
          <a:blip r:embed="rId1"/>
          <a:stretch/>
        </p:blipFill>
        <p:spPr>
          <a:xfrm>
            <a:off x="96840" y="1666800"/>
            <a:ext cx="4643280" cy="521496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6480" y="1268280"/>
            <a:ext cx="4546440" cy="54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4"/>
          <p:cNvSpPr/>
          <p:nvPr/>
        </p:nvSpPr>
        <p:spPr>
          <a:xfrm>
            <a:off x="4767120" y="1809720"/>
            <a:ext cx="3981600" cy="40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ија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влачењ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мањуј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са удаљеношћу међу честицама; силе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лачења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оминирају при малим и великим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аљеностима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 -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ија електростатичког </a:t>
            </a:r>
            <a:r>
              <a:rPr b="0" lang="sr-C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дбијања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а се експоненцијално смањује са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аљеношћу; силе одбијања </a:t>
            </a:r>
            <a:r>
              <a:rPr b="0" lang="sr-C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оминирај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 умереним удаљеностима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PBAS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упна интеракција између дв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иц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влачење честица је најизраженије када су честице врло близу, у примарном минимуму –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p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на извесној удаљености, секундарни минимум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Content Placeholder 5" descr="Shape&#10;&#10;Description automatically generated with medium confidence"/>
          <p:cNvPicPr/>
          <p:nvPr/>
        </p:nvPicPr>
        <p:blipFill>
          <a:blip r:embed="rId2"/>
          <a:stretch/>
        </p:blipFill>
        <p:spPr>
          <a:xfrm>
            <a:off x="2771640" y="2332080"/>
            <a:ext cx="3597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6" descr="DLVO"/>
          <p:cNvPicPr/>
          <p:nvPr/>
        </p:nvPicPr>
        <p:blipFill>
          <a:blip r:embed="rId1"/>
          <a:stretch/>
        </p:blipFill>
        <p:spPr>
          <a:xfrm>
            <a:off x="669960" y="870120"/>
            <a:ext cx="4754520" cy="585468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618840" y="471600"/>
            <a:ext cx="432252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Content Placeholder 5" descr="Shape&#10;&#10;Description automatically generated with medium confidence"/>
          <p:cNvPicPr/>
          <p:nvPr/>
        </p:nvPicPr>
        <p:blipFill>
          <a:blip r:embed="rId2"/>
          <a:stretch/>
        </p:blipFill>
        <p:spPr>
          <a:xfrm>
            <a:off x="3216240" y="1535040"/>
            <a:ext cx="3683160" cy="507996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3"/>
          <p:cNvSpPr/>
          <p:nvPr/>
        </p:nvSpPr>
        <p:spPr>
          <a:xfrm>
            <a:off x="0" y="620640"/>
            <a:ext cx="3355920" cy="67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4716360" y="1123920"/>
            <a:ext cx="4176720" cy="69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нцијална енергија примарног минимума Е1 је велика и ако се честице њему приближе тешко  се одвајају (кеиковање систем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редњим удаљеностима преовладавају одбојне силе -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b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нцијална енергија честица је велика и оне услед одбијања егзистирају свака за себе у вехикулуму (дефлокуловано стање). Али увек постоји опасност да се услед судара честица, оне приближе исувише једна другој, при чему долазе у област примарног минимума, преовладавају привлачне силе и ствара се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ктан агломера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су честице на извесној удаљености, у другом енергетском минимуму-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еовладавају привлачне силе, али се честице могу лако раздвојити, јер је потенцијална енергија Е2 мала (флокулација)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865080" y="1155600"/>
            <a:ext cx="3840120" cy="56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2967120" y="1327320"/>
            <a:ext cx="3840120" cy="56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5440320" y="1052640"/>
            <a:ext cx="3011400" cy="67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95280" y="105264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локуловане и флокуловане суспенз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064360" cy="57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локуловане суспензије –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табилни систем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 зета потенцијал (мера потенцијала на површини честице) им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оку апсолутну вреднос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дбојне силе између две честице надјачавају привлачне и у одређеном временском периоду, честице остају појединачно распршене, споро се таложе, граница између талога и супернатанта није оштра, суспензије имају леп изгле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ном ипак долази до таложења, честице се густо пакују, исувише приближавају (област примарног минимума) и снажно привлаче - настаје талог (кеиковање)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324000" y="1125360"/>
            <a:ext cx="66960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локуловане суспензије –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утски стабилни систем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олико се апсолутна вредност зета потенцијала честица смањ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овладавају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лачне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n der Waals-ove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е. Честице се приближавају једна другој, формирају растресите агрегате, који се означавају као флокуле (структура налик грозду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датко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локуланат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пр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KH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</a:t>
            </a:r>
            <a:r>
              <a:rPr b="0" lang="sr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добијају се стабилне флоку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локулација суспензије се може контролисати додатком супстанци које јонизују тако да су настали јони супротног наелектрисања од наелектрисања диспергованих чести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50560" y="981000"/>
            <a:ext cx="87138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Дефлокуловане суспензије          Флокуловане суспензије</a:t>
            </a:r>
            <a:br>
              <a:rPr sz="2400"/>
            </a:br>
            <a:r>
              <a:rPr b="0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468360" y="1557360"/>
          <a:ext cx="8353440" cy="5067360"/>
        </p:xfrm>
        <a:graphic>
          <a:graphicData uri="http://schemas.openxmlformats.org/drawingml/2006/table">
            <a:tbl>
              <a:tblPr/>
              <a:tblGrid>
                <a:gridCol w="4079880"/>
                <a:gridCol w="427356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стице су у суспензији међусобно одвојен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стице у суспензији формирају лабаве агрегат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stretch/>
                    </a:blipFill>
                  </a:tcPr>
                </a:tc>
              </a:tr>
              <a:tr h="90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зина седиментације је мала, пошто се честице таложе појединачно, а величина им је м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зина седиментације је велика, пошто се честице таложе као флокуле (агрегати честиц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stretch/>
                    </a:blipFill>
                  </a:tcPr>
                </a:tc>
              </a:tr>
              <a:tr h="532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лог се формира спо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stretch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лог се формира брз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stretch/>
                    </a:blipFill>
                  </a:tcPr>
                </a:tc>
              </a:tr>
              <a:tr h="1260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лог је веома густо пакован. Преовладавају одбојне силе међу честицама и формира се компактан талог, који је веома тешко, а некад и немогуће редисперговат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stretch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стице нису међусобно повезане јаким везама и не формира се компактан и густ талог. Талог је растресит и лако се редиспергуј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stretch/>
                    </a:blipFill>
                  </a:tcPr>
                </a:tc>
              </a:tr>
              <a:tr h="1025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спензија је лепог изгледа, јер честице остају суспендоване дуже време. Граница између талога и супернатанта није оштр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stretch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спензија је неприхватљивог изгледа, јер се честице брзо таложе. Граница између талога и супернатанта је оштр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stretch/>
                    </a:blipFill>
                  </a:tcPr>
                </a:tc>
              </a:tr>
              <a:tr h="760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рмацеутски (нестабилан) </a:t>
                      </a:r>
                      <a:r>
                        <a:rPr b="0" lang="sr-C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неприхватљив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исте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1"/>
                      <a:stretch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рмацеутски (стабилан) прихватљив систем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2"/>
                      <a:stretch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чина честице и међуповршинска својства суспендованих честиц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06080" y="1971720"/>
            <a:ext cx="8342280" cy="52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о су честице мање брзина таложења је спорија. Међутим, ситније честице имају већу специфичну површину, што условљава повећање слободне површинске енергије која систем чини термодинамички нестабилни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стице теже да се регрупишу и смање специфичну површину а тиме и слободну површинску енергиј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оваквом систему може доћи до агломерације – флокулације или агрегације (кеиковања) у циљу постизања термодинамички стабилног стањ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ђуповршински напон могуће је смањити додатком површински активних материја и тако стабилизовати суспензиј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43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шење чест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96720" y="1844640"/>
            <a:ext cx="842328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и проблем приликом дисперговања прашкастих супстанци је квашење честица чврсте фазе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рок је адсорбовање ваздуха на површину дисперзне фазе и чињеница да је чврста површина хидрофобна (уколико се ради о води као вехикулуму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гао квашења или контактни угао (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Ɵ)</a:t>
            </a:r>
            <a:r>
              <a:rPr b="0" lang="sr-Latn-CS" sz="2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sr-Latn-C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ао који заклапа честица дисперзне фазе са површином вехикулум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Ɵ &lt;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 – чврста супстанца се добро квас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Ɵ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 90 – чврста супстанца се тешко квас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за квашење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адсорбују на површини честица, смањују међуповршински напон и смањују контактни угао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чешће се користе ПАМ</a:t>
            </a:r>
            <a:r>
              <a:rPr b="0" lang="sr-Latn-C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HLB: 7 -9)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анол, глицерол, хидрофилни полимери</a:t>
            </a:r>
            <a:r>
              <a:rPr b="0" lang="sr-Latn-C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24000" y="1197000"/>
            <a:ext cx="8496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утске суспензије најчешће су намењене з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алну примену (боља биолошка расположивост у односу на чврсте дозиране облике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ентералну примену (интрамускуларно или субкутано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талмолошку примен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у на кожу (суспензија као резервоар лека у трансдермалном фластеру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у у отворе тел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пираторну примену у облику аеросо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успензије се убрајају и препарати припремљени у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у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лику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уве суспензије), који се непосредно пре употреб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ергују у одговарајућем вехикулу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да суспенз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064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и израде суспензија зависе о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сте препарата – типа суспенз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става суспензије – утиче на редослед додавања компоненти, поједине фазе израде треба извести уз загревањ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ин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а се израђује – магистрална израда или индустријска производ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истрална израда суспенз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31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тарионику са пистило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меравање и просејавање чврстих компонен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могена мешавина нерастворних чврстих компоненти меша се са средством за квашење, другим помоћним супстанцама и делом вехикулума до формирања хомогене глатке пасте (концентрат суспензије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 растворне супстанце се растварају у другом делу растварач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/и се уз мешање пистилом додаје/у у концентрат суспензиј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о чистог растварача оставља се за испирање тарионика и пистила приликом преношења препарата у амбалаж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олико је потребно препарат допунити до прописане масе/волумен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устријска производња суспенз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52360" y="18842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зе у индустријској производњи суспензиј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прем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ековит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х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упстанци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је би требало да с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ергуј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 уситњеност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ејав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шањ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 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према вехикулу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ерговање нерастворних супстанци у вехикулум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датак осталих компонен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могенизациј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ковање и сигнирањ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2" name="AutoShape 4"/>
          <p:cNvCxnSpPr>
            <a:stCxn id="291" idx="0"/>
            <a:endCxn id="291" idx="0"/>
          </p:cNvCxnSpPr>
          <p:nvPr/>
        </p:nvCxnSpPr>
        <p:spPr>
          <a:xfrm flipH="1" rot="16200000">
            <a:off x="4366800" y="1883160"/>
            <a:ext cx="2520" cy="252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cxnSp>
        <p:nvCxnSpPr>
          <p:cNvPr id="293" name="AutoShape 5"/>
          <p:cNvCxnSpPr>
            <a:stCxn id="291" idx="0"/>
            <a:endCxn id="291" idx="0"/>
          </p:cNvCxnSpPr>
          <p:nvPr/>
        </p:nvCxnSpPr>
        <p:spPr>
          <a:xfrm flipH="1" rot="16200000">
            <a:off x="4366800" y="1883160"/>
            <a:ext cx="2520" cy="252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ћне материје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аставу суспенз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68360" y="2492280"/>
            <a:ext cx="5975280" cy="42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за повећање вискозит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за кваше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локулан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зерванси, антиоксидан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фе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генси укуса, мириса и бо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за повећање вискозит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25520" y="217656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сахарид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роб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инат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гаканта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сантан гум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атисани силикати (лако хидратишу, апсорбују до 12 пута више воде од своје масе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нтони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бомер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незијум-алуминијум силика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оидни силицијум диоксид (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erosil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83240" y="2133720"/>
            <a:ext cx="403848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солубилни деривати целулоз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илцелулоз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ксиетилцелулоз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боксиметилцелулоза-натријум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кристална целулоз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356760" y="1056960"/>
            <a:ext cx="831852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за квашењ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вршинск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ктивн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атериј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HLB 7-9 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олисорбати и сорбитан естри за оралне суспензије; натријум-лаурил сулфат за дерматолошке суспензије; лецити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полисорбати за парентералне суспензиј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Хидрофилн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лоид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ксантан гума, трагаканта, алгинат, деривати целулоз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стварач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ј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ешају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до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глицерол, алкохол и пропиленгликол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локулан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сципијенси који омогућавају стварање лабавих агрегата честица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локу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АМ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ријум-лаурил сулфат, бензалконијум хлорид, Полисорбат 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лектролит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уминијум хлорид, натријум цитрат, калијум дихидроген фосфат, натријум дихидроген фосфат, натријум хлорид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Хидрофилн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лимер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CMC,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илцелулоза, трагака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органаска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једињења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-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нтони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Box 4"/>
          <p:cNvSpPr/>
          <p:nvPr/>
        </p:nvSpPr>
        <p:spPr>
          <a:xfrm>
            <a:off x="468360" y="1197000"/>
            <a:ext cx="8424720" cy="57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зерванс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авезно се додају воденим, вишедозним суспензија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чешће коришћени конзерванси: деривати пара-хидроксибезоеве киселине (парабени), соли сорбинске киселине, хлоркрезо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ор конзерванса зависи првенствено од пута примене суспенз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хтеви који би требало да задовољи конзерванс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тибилност са осталим компонентама препарата и амбалаж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ок спектар деј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ктерицидно деј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солубилн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нема боју ни мир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хтеве фармакопеј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да, паковање, дистрибуција и чување суспензија мора да осиг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говарајући микробиолошки квалите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илни – категорија 1; за спољашњу примену – категорија 2; за оралн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ректалну примену – категорија 3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8000" y="1062000"/>
            <a:ext cx="821844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оксиданси</a:t>
            </a:r>
            <a:br>
              <a:rPr sz="1600"/>
            </a:br>
            <a:br>
              <a:rPr sz="1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4"/>
          <p:cNvSpPr/>
          <p:nvPr/>
        </p:nvSpPr>
        <p:spPr>
          <a:xfrm>
            <a:off x="395280" y="1773360"/>
            <a:ext cx="8569440" cy="50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чешће коришћени антиоксиданси: бутилхидроксианизол, бутилхидрокситолуол, естри галне кисели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генси укуса, мириса и бо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говање укуса се постиже најчешће додатком шећ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генси боје: прехрамбене бо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фе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чешће коришћени пуфери: фосфатни и цитратни</a:t>
            </a:r>
            <a:br>
              <a:rPr sz="2400"/>
            </a:b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и  у изради и чувању суспенз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179280" y="1557360"/>
          <a:ext cx="8856720" cy="5111640"/>
        </p:xfrm>
        <a:graphic>
          <a:graphicData uri="http://schemas.openxmlformats.org/drawingml/2006/table">
            <a:tbl>
              <a:tblPr/>
              <a:tblGrid>
                <a:gridCol w="2952720"/>
                <a:gridCol w="2951280"/>
                <a:gridCol w="2952720"/>
              </a:tblGrid>
              <a:tr h="324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РОБЛЕ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УЗРО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ЕШЕЊЕ ПРОБЛЕМ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10800000"/>
                    </a:gradFill>
                  </a:tcPr>
                </a:tc>
              </a:tr>
              <a:tr h="1136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ЕИКОВАЊ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ФЛОКУЛОВАНА СУСПЕНЗИЈ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Т КРИСТАЛ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РА ЗЕТА ПОТЕНЦИЈАЛ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УЛИСАЊЕ ФЛОКУЛОВАНЕ СУСПЕНЗИЈ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ЕЋАЊЕ ГУСТИНЕ И ВИСКОЗИТЕТА ВЕХИКУЛУМ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МЕНА ВЕЛИЧИНЕ ЧЕСТИЦ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10800000"/>
                    </a:gradFill>
                  </a:tcPr>
                </a:tc>
              </a:tr>
              <a:tr h="1108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Т КРИСТАЛ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ИМОРФИЗА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КСТРЕМНЕ РАЗЛИКЕ У ВЕЛИЧИНИ КРИСТАЛ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ЛИКА КОНЦ. ПОЛИМЕР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ЕРАТУРНЕ ПРОМЕН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АЊЕЊЕ МЕЂУПОВРШИНСКОГ НАПО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ЈЕДНАЧАВАЊЕ ВЕЛИЧИНЕ ЧЕСТИЦ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ОТРЕБА ЗАШТИТНИХ КОЛОИ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РА КОНЦ. ПА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10800000"/>
                    </a:gradFill>
                  </a:tcPr>
                </a:tc>
              </a:tr>
              <a:tr h="946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ФЛОКУЛАЦИЈ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ТЕРАНА КОНЦ. ФЛОКУЛАНА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МЕНА ЗЕТА ПОТЕНЦИЈАЛ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Т КРИСТАЛ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РА КОНЦ. ПАМ, ФЛОКУЛАНАТА, ПОЛИМЕР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РА ЗЕТА ПОТЕНЦИЈАЛ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10800000"/>
                    </a:gradFill>
                  </a:tcPr>
                </a:tc>
              </a:tr>
              <a:tr h="650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А БИОЛОШКА РАСПОЛОЖИВОС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СОРПЦИЈА ЛЕКА НА САСТОЈКЕ ФОРМУЛАЦИЈ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ВИШЕ СИТНЕ ЧЕСТИЦ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РА КОМПАТИБИЛНОСТИ САСТОЈАКА ФОРМУЛАЦИЈ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ЕЋАЊЕ ВЕЛИЧИНЕ ЧЕСТИЦ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10800000"/>
                    </a:gradFill>
                  </a:tcPr>
                </a:tc>
              </a:tr>
              <a:tr h="946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АЊЕЊЕ АКТИВНОСТИ ЛЕ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СПЕНЗИЈА НИЈЕ ХОМОГЕ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РИЈАЦИЈЕ У ВЕЛИЧИНИ ЧЕСТИЦ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СУСТВО ВАЗДУХА У СУСПЕНЗИЈ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РА ФОРМУЛАЦИЈ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ЕКЦИЈА ВЕЛИЧИНЕ ЧЕСТИЦ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РА ТЕХНОЛОШКОГ ПОСТУПКА ИЗРАДЕ (МЕШАЊЕ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108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79280" y="90792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и у изради и чувању суспенз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250920" y="1413000"/>
          <a:ext cx="8893080" cy="5207040"/>
        </p:xfrm>
        <a:graphic>
          <a:graphicData uri="http://schemas.openxmlformats.org/drawingml/2006/table">
            <a:tbl>
              <a:tblPr/>
              <a:tblGrid>
                <a:gridCol w="3011400"/>
                <a:gridCol w="3011400"/>
                <a:gridCol w="2870280"/>
              </a:tblGrid>
              <a:tr h="259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ПРОБЛЕ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УЗРО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РЕШЕЊЕ ПРОБЛЕ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10800000"/>
                    </a:gradFill>
                  </a:tcPr>
                </a:tc>
              </a:tr>
              <a:tr h="732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ЛОТАЦИЈ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ДРОФОБНЕ ЧЕСТИЦ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ДОВОЉНО КВАШЕЊ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ОТРЕБА ПОДЕСНОГ КВАСЕЋЕГ СРЕДСТВ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ДАВАЊЕ У ВИШКУ ХИДРОФИЛНОГ ПОЛИМЕР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10800000"/>
                    </a:gradFill>
                  </a:tcPr>
                </a:tc>
              </a:tr>
              <a:tr h="948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МЕНА </a:t>
                      </a:r>
                      <a:r>
                        <a:rPr b="1" lang="sr-Latn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АДЕКВАТАН ПУФЕ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МЕНА НАЕЛЕКТРИСАЊ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ГРАДЊА ЛЕ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БИОЛОШКА КОНТАМИНАЦИЈ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ИСТИТИ ПУФЕР ВЕЋЕГ КАПАЦИТЕ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РА ЗЕТА ПОТЕНЦИЈАЛ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РА СТАБИЛНОСТИ ЛЕ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РА КОНЗЕРВАНС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10800000"/>
                    </a:gradFill>
                  </a:tcPr>
                </a:tc>
              </a:tr>
              <a:tr h="915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А РЕДИСПЕРЗИБИЛНОС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ФЛОКУЛОВАН СИСТЕ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УЈЕДНАЧЕНА ВЕЛИЧИНА ЧЕСТИЦ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И ВИСКОЗИТЕТ ВЕХИКУЛУМ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ДАТАК ФЛОКУЛАН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А ВЕЛИЧИНЕ ЧЕСТИЦ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ЕЋАЊЕ ВИСКОЗИТЕТА ВЕХИКУЛУМ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10800000"/>
                    </a:gradFill>
                  </a:tcPr>
                </a:tc>
              </a:tr>
              <a:tr h="109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ДИМЕНТАЦИЈ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И ВИСКОЗИТЕТ ВЕХИКУЛУМ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ДГОВАРАЈУЋЕ НАЕЛЕКТРИСАЊЕ ЧЕСТИЦ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ЕЋАЊЕ ВИСКОЗИТЕТА ВЕХИКУЛУМ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РА НАЕЛЕКТРИСАЊ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РАДА ТИКСОТРОПНОГ СИСТЕМ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10800000"/>
                    </a:gradFill>
                  </a:tcPr>
                </a:tc>
              </a:tr>
              <a:tr h="1252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МЕНА БОЈЕ,МИРИСА И УКУС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ЈЕНА РЕАКЦИЈА САСТОЈА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СТАБИЛНА БОЈ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СУСТВО ВАЗДУХА У СУСПЕНЗИЈ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ЕМИЈСКА РЕАКЦИЈ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РА СТАБИЛНОСТИ ФОРМУЛАЦИЈЕ ( ПОСЕБНО БОЈЕ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ОД ОСЛОБОДИТИ ВАЗДУХ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РА СТАБИЛНОСТИ КОРИГЕНС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108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68000" y="1196640"/>
            <a:ext cx="8351640" cy="688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ерално, величина честица у фармацеутским суспензијама износи 0,1 – 10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ли најчешће се креће у опсегу 1 – 5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олико се суспензија примењује на слузницу ока или у парентералном облику постоје посебни захтеви – величина честица је најчешће 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могу бити и веће, али не преко 4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меју садржавати супстанце врло јаког деловањ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пеје дају општи пропис за израду и монограф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су течне издају се са напомен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е употребе промућкати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"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е суспенз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916280"/>
            <a:ext cx="8002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ем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спензија треба потврди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ку, хемијску и микробиолошку стабилн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пијско деловањ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чност дозирањ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значајнија испитивања су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олептичка испитива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ђивање величине честиц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ђивање суспензионог коефициј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еређивање зета потенциј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ђивање редисперзибил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е реолошких својстава – мерењем вискозит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ђивање рН вред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ђивање садржаја активне супстанц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ђивање брзине растварања лековите супстанце из препа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биолошки квалитет (стерилност или микробиолошка чистоћ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билн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ttps://www.youtube.com/watch?v=3Jj8WCJB4OI&amp;ab_channel=NicholasBackstr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457200" y="2287080"/>
            <a:ext cx="4038480" cy="452628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4648320" y="2287080"/>
            <a:ext cx="4038480" cy="45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Box 4"/>
          <p:cNvSpPr/>
          <p:nvPr/>
        </p:nvSpPr>
        <p:spPr>
          <a:xfrm>
            <a:off x="357120" y="1285920"/>
            <a:ext cx="85010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хикулу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 израду суспензиј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чишћена вода или водени раство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водени вехикулуми који се мешају са водом (глицерол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анол, пропиленглико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водени вехикулуми који се не мешају са водом (биљна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ерална уља, синтетски естр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оралне суспензије користи се искључиво вода, док се за остале путеве апликације могу користити и други вехикулу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ор вехикулума зависи од физичко-хемијских особина лековите супстанце, пута примене, стабил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57120" y="149976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графије лековитих облика типа суспензија у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.Jug.IV</a:t>
            </a:r>
            <a:br>
              <a:rPr sz="24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28760" y="21427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.Jug.IV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је општу монографију за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spensiones medicinale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течни лековити препарати за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ралну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општим монографијама других препарата наводи да ти лековити облици могу бити и препарати типа суспензиј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ти облици типа суспензија за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ралну примен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и (gut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руп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стур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амо нек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sulae medicinales (само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ти облици типа суспензија за парентералну приме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јек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кцин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57200" y="1285560"/>
            <a:ext cx="8229600" cy="552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ти облици типа суспензија за примену на слузокожу о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и за о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и за о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ти облици типа суспензија за примену на кож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ним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сио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те галер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ти облици типа суспензија за примену у отворе т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спенз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гитор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ц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0040" y="1856880"/>
            <a:ext cx="8229600" cy="142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графије лековитих облика типа суспензија 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br>
              <a:rPr sz="2400"/>
            </a:b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.Jug.V</a:t>
            </a:r>
            <a:br>
              <a:rPr sz="2000"/>
            </a:br>
            <a:br>
              <a:rPr sz="2000"/>
            </a:b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.Jug.V и Ph. Eur. 7.0 не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ји општ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графија суспензија већ се у оквиру других монографија наводи да ти лековити облици могу бити и препарати типа суспензија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28760" y="3428640"/>
            <a:ext cx="8229600" cy="57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ти облици типа суспензија за оралну приме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ни препарати за оралну приме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руп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кови и грануле за израду раствора и суспензија за оралну употерб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ервесцентне грану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ервесцентни прашко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ерзибилне табле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sulae medicinales (само мек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95280" y="1214280"/>
            <a:ext cx="8229600" cy="627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    лековити облици типа суспензија за парентералну приме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јек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кц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кови за инјек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    лековити облици типа суспензија за примену на слузокожу о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и за о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врсти препарати за о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    лековити облици типа суспензија за примену на кож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ни препарати за примену на кож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врсти препарати за спољашњу приме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ти облици типа суспензија за примену у отворе т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Ucionica</cp:lastModifiedBy>
  <dcterms:modified xsi:type="dcterms:W3CDTF">2022-10-19T10:36:50Z</dcterms:modified>
  <cp:revision>23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_Confidentiality">
    <vt:lpwstr>Restricted</vt:lpwstr>
  </property>
  <property fmtid="{D5CDD505-2E9C-101B-9397-08002B2CF9AE}" pid="3" name="MSIP_Label_a59b6cd5-d141-4a33-8bf1-0ca04484304f_ActionId">
    <vt:lpwstr>5b44249e-7a87-427d-a7cd-f32d73985abf</vt:lpwstr>
  </property>
  <property fmtid="{D5CDD505-2E9C-101B-9397-08002B2CF9AE}" pid="4" name="MSIP_Label_a59b6cd5-d141-4a33-8bf1-0ca04484304f_ContentBits">
    <vt:lpwstr>0</vt:lpwstr>
  </property>
  <property fmtid="{D5CDD505-2E9C-101B-9397-08002B2CF9AE}" pid="5" name="MSIP_Label_a59b6cd5-d141-4a33-8bf1-0ca04484304f_Enabled">
    <vt:lpwstr>true</vt:lpwstr>
  </property>
  <property fmtid="{D5CDD505-2E9C-101B-9397-08002B2CF9AE}" pid="6" name="MSIP_Label_a59b6cd5-d141-4a33-8bf1-0ca04484304f_Method">
    <vt:lpwstr>Standard</vt:lpwstr>
  </property>
  <property fmtid="{D5CDD505-2E9C-101B-9397-08002B2CF9AE}" pid="7" name="MSIP_Label_a59b6cd5-d141-4a33-8bf1-0ca04484304f_Name">
    <vt:lpwstr>restricted-default</vt:lpwstr>
  </property>
  <property fmtid="{D5CDD505-2E9C-101B-9397-08002B2CF9AE}" pid="8" name="MSIP_Label_a59b6cd5-d141-4a33-8bf1-0ca04484304f_SetDate">
    <vt:lpwstr>2021-10-22T16:50:37Z</vt:lpwstr>
  </property>
  <property fmtid="{D5CDD505-2E9C-101B-9397-08002B2CF9AE}" pid="9" name="MSIP_Label_a59b6cd5-d141-4a33-8bf1-0ca04484304f_SiteId">
    <vt:lpwstr>38ae3bcd-9579-4fd4-adda-b42e1495d55a</vt:lpwstr>
  </property>
</Properties>
</file>